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692-4C9A-4695-A9F7-2F8650D4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815-F8A4-4D28-B1E9-2EF8038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766-0E8F-4EE6-AFE9-1A72FFAF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A33-C2BE-4AEE-884D-13AB2C48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1D4-A9C6-4341-8D15-E07E6E0B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7AB-7B72-433B-9CAD-BAD98E44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79D-F1E9-4779-ADFB-48A28BA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227-8A20-45B7-9980-912D3EB0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A87-AB7A-45C7-8F0E-D0730D2A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0EB-E108-4B3D-8D3A-840A836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D9F-9433-4086-8994-FA377F7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303-7BF0-437C-A014-40F2321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7C47-26BD-49A5-B3CA-C4CE79079F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tlíky versus kote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898989"/>
                </a:solidFill>
                <a:latin typeface="Calibri"/>
              </a:rPr>
              <a:t>Předmětem  je  investiční porovnání  mezi instalací  plynových kotlů s přípravou teplé vody v jednotlivých bytech bytového domu  a centrálním zdrojem tepla  pro vytápění bytů s přípravou teplé vody v centrálním zdroji tepl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ále je třeba si uvědomit, že kotelnu se zdrojem tepla o výkonu 49,5 kW lze přidáním  dalšího kotle o stejném výkon velmi snadno rozšířit   a zvýšit kapacitu zásobovaných bytů  o  dalších 5-7.   Při tomto počtu se také výrazně začnou  projevovat  zvýšené provozní náklady  na revize komína, kontroly kotlů  a servisní  činnost  2 kotle  versus 12 kotlů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/ Závě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porovnávání pravděpodobně nebyly podchyceny zcela přesně některé  investiční náklady, které při propočtech vycházeli z modelového předpokladu  osazení  kotlů v bytech a v centrálním zdroji tepla. Přesto  jsem přesvědčen, že hranice 3 bytů  je  zlomová pro rozhodování.  K jednotlivým případům je však  třeba přistupovat  individuálně a rozhodnutí je třeba provést pro konkrétní  stavební řešení. Z praxe  bývá hlavním parametrem  počet volných komínových průduchu a možnost odkouření jednotlivých kotlů a také možnost přívodu spalovacího vzduchu pro tyto kotle. Legislativa se v pro tato řešení za poslední roky velmi zpřísnila a stále se zpřísňuje. Komplikovaná řešení pak bývají náklad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ím z aspektu hovořících pro centrální zdroje tepla je také možnost  dálkového monitoringu pomocí jednoduchých serverů,  které jsou schopny monitorovat provozní stavy, poruchové a řídit chod těchto malých kotel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Konečné slovo má přesto vždy inve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57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00"/>
                </a:solidFill>
                <a:uFillTx/>
                <a:latin typeface="Calibri"/>
              </a:rPr>
              <a:t>A / instalace plynového kotle v jednotlivém bytě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 jednotlivých bytech dle platné legislativy musí být v podstatě instalován uzavřený plynový spotřebič, kondenzační kotel  ( požadavek kondenzačního kotle vyplývá z požadavku splnit třídu exhalací pro Prahu Nox 5)  se zásobníkem na přípravu teplé vody.  Pro uvažované byty o vytápěné ploše cca 80 m2  je potřeba tepla cca 5-6 kW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jeden byt je tedy  třeba instalovat  jeden kotel o výkonu  cca 1-10 kW ( 2-17 kW ) spolu ze zásobníkem teplé vody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brán byl kotel s výkonovým rozsahem 1-10 kW a zásobníkem o velikosti 120 l – typově pro bytovou jednotk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7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byt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8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3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kotle v jednom bytě        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121 000,- 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        15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1000,-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vozní roční  náklady na  jeden byt 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2500,- 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stalační   př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/ volné komínové průduchy pro jednotlivé kotle v jednotlivých bytech  ( Možností je i instalace komína LAS s možností  pro napojení více kotlů do jednoho komína.  Z praxe je  tato možnost spíše ojedinělá, technicky komplikovaná a bývá krajní volbou pro možnost odkouření )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2/  kotel a zásobník  je nutno v bytu umístit - prostor cca  60x60x200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/  kotel dle platné legislativy vyžaduje přísné podmínky pro přívod spalovacího vzduchu.  Např. v bytech s plastovými okny je instalace kotle bez přívodu vzduchu z venku nebo ze světlíku, větrací šachty  prakticky nerealizovateln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B/ Centrálního zdroje tepla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nstalace  centrálního zdroje vychází z předpokladu, že námi navrhovaný zdroj bude ve smyslu platných předpisů plynové odběrní zařízení  tj. maximální výkon 49,5 kW respektive pro  větší zdroje tepla 2*49,5 kW ( takto navržený zdroj je ve smyslu platných předpisů – plynové odběrní zařízení  jako jeden kotel v bytě či rodinném domě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 tohoto předpokladu a obvyklé velikosti bytů jsme schopni výkonem  zdrojem tepla o výkonu 49,5 kW připravovat  topnou vodu pro vytápění cca 5 bytů  včetně teplé vo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ený zdroj je o výkonu 49,5 kW s centrální přípravou teplé vody  a s měřením spotřeby tepla na vstupu do jednotlivých bytů, s měřením tepla  na přípravu teplé vody a měřením v jednotlivých bytech   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instalace tohoto zařízení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otel + zásobník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         10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rmatury, čerpadla ,…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45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Odkouření    typické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ojka plynu pro kotelnu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ěřiče tepla  v kotelně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0000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ntáž kotle + okouření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egulace     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5000,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Cena zdroje tepla                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alibri"/>
              </a:rPr>
              <a:t>           250000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-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na paty jednotlivých bytů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3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ěření tepla  pro   5 bytů             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50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é vody   do 5 by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4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ena rozvodů tepla 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125000,-   na jeden byt        250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roční    - základní      servis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500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vize komín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1000,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vozní náklady na  koteln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       2500,-  K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rovnání     centrálního zdroje tepla  versus lokální přípravy v jednotlivých bytech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Kotelna +rozvody           1 byt               2 byty              3 byty              4 byty                 5 bytů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5 000                        12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 000                                                 242 000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25 000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363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50 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484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75 000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   605 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 uvedené ho vyplývá, že uvažovat o centrálním zdroji tepla je vhodné již  při  instalaci  zdrojů tepla  ve třech by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centrální kotelny  je třeba se také zmínit o nutnosti tuto kotelnu  navrhnou do odpovídajících prostor a s tím mohou být spojené stavební náklady, které mohou  toto rozhodnutí např.  posunout k hranici 4  vytápěných bytů.    Pro centrální kotelnu  s jedním zdrojem tepla  je také velká výhoda jednoho odkouření o průměru 110 mm – možnost vložkovat jeden stávající komínový průduch 150/15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9:20:31Z</dcterms:created>
  <dc:creator>Petr</dc:creator>
  <dc:description/>
  <dc:language>en-US</dc:language>
  <cp:lastModifiedBy>Petr</cp:lastModifiedBy>
  <dcterms:modified xsi:type="dcterms:W3CDTF">2016-10-10T11:26:58Z</dcterms:modified>
  <cp:revision>9</cp:revision>
  <dc:subject/>
  <dc:title>Kotlíky versus kotelna</dc:title>
</cp:coreProperties>
</file>